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6BED9-6936-47C0-861A-A339C0F27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67A69-4746-4ECD-8BA1-F344E3544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230AC-49E3-4D5A-BC18-3E1431621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00F5B-E7C6-4019-9141-4A86B17C6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137F8-03DE-43FC-A4FE-FBA415CC7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AEB2F-1229-4256-B7E0-703466485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637DE-2809-4478-B86E-9F18DC4AD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7DC72-820F-4618-AB93-BC6451419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548FC-91CB-48C9-860B-1FC1BD321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FB0CB-54C7-4612-A3FD-2D027CF03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1C64B-3CF5-4138-ADEB-91393524E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93A2E-D0EF-4099-BE08-B9E02A288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B2294-B831-4B7E-B6F1-3E7D48722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F0701-1205-4E32-A55A-C27F9E95D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705A4-3DEC-4BDF-B7CD-167234166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63A57-0575-4A87-BD75-EBF348B0E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0C34A-B7A9-49A4-A2F7-04F621481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A5C48-8C81-46A5-A590-10BB375AA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2D7FA-45F4-4641-A852-8B4FA0BB3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76093-7613-40AD-8EEC-02A87BFFE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927A8-4C89-4744-883F-65CBE3128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F8F61-A48E-4A5F-915F-4D539CF08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6818E-C0D5-4660-A43B-E24E051DA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DD6AB-EC34-4CD3-8F8C-A1481038B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9A4C2-417A-41C6-999C-D1F1E7D40F1A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DCEBF-43DC-4FFA-8DD8-3409E7D57C34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f1311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f131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6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3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slide" Target="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3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6.png"/><Relationship Id="rId8" Type="http://schemas.openxmlformats.org/officeDocument/2006/relationships/slide" Target=""/><Relationship Id="rId9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Give Us A King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Quarter 5, Lesson 3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 Sam. 16-17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ages 86-90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Points In Review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bsalom and David had been estranged from each other over the Amnon inciden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fter a while there was a supposed reconciliation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on Absalom rebelled against his father, making underhanded efforts to take the kingdom from David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vid left Jerusalem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med"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After David’s Flight From Jerusalem</a:t>
            </a:r>
            <a:br>
              <a:rPr sz="3600"/>
            </a:br>
            <a:r>
              <a:rPr b="0" lang="en-US" sz="2800" spc="-1" strike="noStrike">
                <a:solidFill>
                  <a:srgbClr val="f7d47d"/>
                </a:solidFill>
                <a:latin typeface="Arial"/>
              </a:rPr>
              <a:t>2 Sam. 16:1-22</a:t>
            </a:r>
            <a:endParaRPr b="0" lang="en-US" sz="28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had troubles along the way –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Ziba pretended to be his friend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-4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aid Mephiboseth stayed so the kingdom would return to him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imei cursed David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-14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ad Psa. 3 - David’s prayer in adversity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ushai feigns loyalty to Absalom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-18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bsalom defiles David’s concubines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9-22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med">
    <p:zoom dir="in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" dur="5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" dur="5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8" dur="500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3" dur="500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8" dur="500"/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3" dur="500"/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0" y="22680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Hushai and Ahithophel Advise Absalom -  </a:t>
            </a:r>
            <a:r>
              <a:rPr b="0" lang="en-US" sz="2800" spc="-1" strike="noStrike">
                <a:solidFill>
                  <a:srgbClr val="f7d47d"/>
                </a:solidFill>
                <a:latin typeface="Arial"/>
              </a:rPr>
              <a:t>2 Sam. 16:23-17:14</a:t>
            </a:r>
            <a:endParaRPr b="0" lang="en-US" sz="28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9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hithophel: Hunt down and kill David with 12,000 men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6:23 -17:4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ushai: Get ALL Israel to do battle against David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7:5-14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advice of Hushai chosen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ably because of David’s military savvy, as Hushai pointed out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rt of God’s plan to bring disaster on Absalom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Remember David’s prayer in 15:31)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med">
    <p:zoom dir="in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David’s Spy System Is Put Into Use</a:t>
            </a:r>
            <a:br>
              <a:rPr sz="3600"/>
            </a:br>
            <a:r>
              <a:rPr b="0" lang="en-US" sz="2800" spc="-1" strike="noStrike">
                <a:solidFill>
                  <a:srgbClr val="f7d47d"/>
                </a:solidFill>
                <a:latin typeface="Arial"/>
              </a:rPr>
              <a:t>2 Sam. 17:15-23</a:t>
            </a:r>
            <a:endParaRPr b="0" lang="en-US" sz="28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ssage Sent to David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5-22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oss the river as quick as possible”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onathan and Ahimaaz almost caught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vid and people crossed that night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hithophel Committed Suicide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3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 knew the eventual outcome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ranged his affairs and hanged himself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2" name="">
            <a:hlinkClick r:id="" action="ppaction://hlinkshowjump?jump=lastslide"/>
          </p:cNvPr>
          <p:cNvSpPr/>
          <p:nvPr/>
        </p:nvSpPr>
        <p:spPr>
          <a:xfrm>
            <a:off x="6934320" y="6172200"/>
            <a:ext cx="761760" cy="457200"/>
          </a:xfrm>
          <a:custGeom>
            <a:avLst/>
            <a:gdLst>
              <a:gd name="textAreaLeft" fmla="*/ 29520 w 761760"/>
              <a:gd name="textAreaRight" fmla="*/ 732240 w 7617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5977" h="21600">
                <a:moveTo>
                  <a:pt x="0" y="0"/>
                </a:moveTo>
                <a:lnTo>
                  <a:pt x="35977" y="0"/>
                </a:lnTo>
                <a:lnTo>
                  <a:pt x="35977" y="21600"/>
                </a:lnTo>
                <a:lnTo>
                  <a:pt x="0" y="21600"/>
                </a:lnTo>
                <a:close/>
              </a:path>
              <a:path fill="lightenLess" w="35977" h="21600">
                <a:moveTo>
                  <a:pt x="0" y="0"/>
                </a:moveTo>
                <a:lnTo>
                  <a:pt x="35977" y="0"/>
                </a:lnTo>
                <a:lnTo>
                  <a:pt x="34577" y="1400"/>
                </a:lnTo>
                <a:lnTo>
                  <a:pt x="1400" y="1400"/>
                </a:lnTo>
                <a:close/>
              </a:path>
              <a:path fill="darken" w="35977" h="21600">
                <a:moveTo>
                  <a:pt x="35977" y="0"/>
                </a:moveTo>
                <a:lnTo>
                  <a:pt x="35977" y="21600"/>
                </a:lnTo>
                <a:lnTo>
                  <a:pt x="34577" y="20200"/>
                </a:lnTo>
                <a:lnTo>
                  <a:pt x="34577" y="1400"/>
                </a:lnTo>
                <a:close/>
              </a:path>
              <a:path fill="darkenLess" w="35977" h="21600">
                <a:moveTo>
                  <a:pt x="359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77" y="20200"/>
                </a:lnTo>
                <a:close/>
              </a:path>
              <a:path fill="lighten" w="359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5b7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Map 2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3" name="">
            <a:hlinkClick r:id="rId8" action="ppaction://hlinksldjump"/>
          </p:cNvPr>
          <p:cNvSpPr/>
          <p:nvPr/>
        </p:nvSpPr>
        <p:spPr>
          <a:xfrm>
            <a:off x="6172200" y="61722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5b7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Map 1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med">
    <p:zoom dir="in"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Preparations For Battle </a:t>
            </a:r>
            <a:br>
              <a:rPr sz="3600"/>
            </a:br>
            <a:r>
              <a:rPr b="0" lang="en-US" sz="2800" spc="-1" strike="noStrike">
                <a:solidFill>
                  <a:srgbClr val="f7d47d"/>
                </a:solidFill>
                <a:latin typeface="Arial"/>
              </a:rPr>
              <a:t>2 Sam. 17:24-29</a:t>
            </a:r>
            <a:endParaRPr b="0" lang="en-US" sz="28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vid arrived in Mahanaim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t supporters – Shobi, Machir, Barzillai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y provided necessities to David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bsalom prepared forces for battle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masa was his chief captain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vid’s nephew; Absalom’s cousin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bsalom’s army also crossed the Jordan into Gilead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6" name="">
            <a:hlinkClick r:id="" action="ppaction://hlinkshowjump?jump=lastslide"/>
          </p:cNvPr>
          <p:cNvSpPr/>
          <p:nvPr/>
        </p:nvSpPr>
        <p:spPr>
          <a:xfrm>
            <a:off x="6934320" y="6172200"/>
            <a:ext cx="761760" cy="457200"/>
          </a:xfrm>
          <a:custGeom>
            <a:avLst/>
            <a:gdLst>
              <a:gd name="textAreaLeft" fmla="*/ 29520 w 761760"/>
              <a:gd name="textAreaRight" fmla="*/ 732240 w 7617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5977" h="21600">
                <a:moveTo>
                  <a:pt x="0" y="0"/>
                </a:moveTo>
                <a:lnTo>
                  <a:pt x="35977" y="0"/>
                </a:lnTo>
                <a:lnTo>
                  <a:pt x="35977" y="21600"/>
                </a:lnTo>
                <a:lnTo>
                  <a:pt x="0" y="21600"/>
                </a:lnTo>
                <a:close/>
              </a:path>
              <a:path fill="lightenLess" w="35977" h="21600">
                <a:moveTo>
                  <a:pt x="0" y="0"/>
                </a:moveTo>
                <a:lnTo>
                  <a:pt x="35977" y="0"/>
                </a:lnTo>
                <a:lnTo>
                  <a:pt x="34577" y="1400"/>
                </a:lnTo>
                <a:lnTo>
                  <a:pt x="1400" y="1400"/>
                </a:lnTo>
                <a:close/>
              </a:path>
              <a:path fill="darken" w="35977" h="21600">
                <a:moveTo>
                  <a:pt x="35977" y="0"/>
                </a:moveTo>
                <a:lnTo>
                  <a:pt x="35977" y="21600"/>
                </a:lnTo>
                <a:lnTo>
                  <a:pt x="34577" y="20200"/>
                </a:lnTo>
                <a:lnTo>
                  <a:pt x="34577" y="1400"/>
                </a:lnTo>
                <a:close/>
              </a:path>
              <a:path fill="darkenLess" w="35977" h="21600">
                <a:moveTo>
                  <a:pt x="359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77" y="20200"/>
                </a:lnTo>
                <a:close/>
              </a:path>
              <a:path fill="lighten" w="359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5b7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Map 2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7" name="">
            <a:hlinkClick r:id="rId8" action="ppaction://hlinksldjump"/>
          </p:cNvPr>
          <p:cNvSpPr/>
          <p:nvPr/>
        </p:nvSpPr>
        <p:spPr>
          <a:xfrm>
            <a:off x="6172200" y="61722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5b7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Map 1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med">
    <p:zoom dir="in"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0724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 flipH="1" flipV="1">
            <a:off x="5562360" y="2285640"/>
            <a:ext cx="1981080" cy="167652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391520" y="39625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hanaim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5409720" y="609480"/>
            <a:ext cx="2667240" cy="190512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696080" y="281952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-debar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286000"/>
            <a:ext cx="1676520" cy="1523880"/>
          </a:xfrm>
          <a:custGeom>
            <a:avLst/>
            <a:gdLst/>
            <a:ahLst/>
            <a:rect l="l" t="t" r="r" b="b"/>
            <a:pathLst>
              <a:path w="1056" h="960">
                <a:moveTo>
                  <a:pt x="0" y="960"/>
                </a:moveTo>
                <a:cubicBezTo>
                  <a:pt x="296" y="948"/>
                  <a:pt x="592" y="936"/>
                  <a:pt x="720" y="816"/>
                </a:cubicBezTo>
                <a:cubicBezTo>
                  <a:pt x="848" y="696"/>
                  <a:pt x="712" y="376"/>
                  <a:pt x="768" y="240"/>
                </a:cubicBezTo>
                <a:cubicBezTo>
                  <a:pt x="824" y="104"/>
                  <a:pt x="1008" y="40"/>
                  <a:pt x="1056" y="0"/>
                </a:cubicBezTo>
              </a:path>
            </a:pathLst>
          </a:custGeom>
          <a:noFill/>
          <a:ln w="76320">
            <a:solidFill>
              <a:srgbClr val="2f131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7467480" y="5257800"/>
            <a:ext cx="167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oute of David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 flipH="1" flipV="1">
            <a:off x="5257440" y="3581280"/>
            <a:ext cx="2133720" cy="198144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cxnSp>
        <p:nvCxnSpPr>
          <p:cNvPr id="216" name=""/>
          <p:cNvCxnSpPr>
            <a:stCxn id="208" idx="1"/>
            <a:endCxn id="208" idx="1"/>
          </p:cNvCxnSpPr>
          <p:nvPr/>
        </p:nvCxnSpPr>
        <p:spPr>
          <a:xfrm flipH="1" flipV="1" rot="10800000">
            <a:off x="-360" y="3402360"/>
            <a:ext cx="2160" cy="2520"/>
          </a:xfrm>
          <a:prstGeom prst="curvedConnector5">
            <a:avLst>
              <a:gd name="adj1" fmla="val -14400000"/>
              <a:gd name="adj2" fmla="val 50000"/>
              <a:gd name="adj3" fmla="val -14400000"/>
            </a:avLst>
          </a:prstGeom>
          <a:ln w="9360">
            <a:solidFill>
              <a:srgbClr val="2f1311"/>
            </a:solidFill>
            <a:miter/>
          </a:ln>
        </p:spPr>
      </p:cxnSp>
      <p:sp>
        <p:nvSpPr>
          <p:cNvPr id="217" name="">
            <a:hlinkClick r:id="" action="ppaction://hlinkshowjump?jump=previousslide"/>
          </p:cNvPr>
          <p:cNvSpPr/>
          <p:nvPr/>
        </p:nvSpPr>
        <p:spPr>
          <a:xfrm>
            <a:off x="8381880" y="6324480"/>
            <a:ext cx="762120" cy="53352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0849" h="21600">
                <a:moveTo>
                  <a:pt x="0" y="0"/>
                </a:moveTo>
                <a:lnTo>
                  <a:pt x="30849" y="0"/>
                </a:lnTo>
                <a:lnTo>
                  <a:pt x="30849" y="21600"/>
                </a:lnTo>
                <a:lnTo>
                  <a:pt x="0" y="21600"/>
                </a:lnTo>
                <a:close/>
              </a:path>
              <a:path fill="lightenLess" w="30849" h="21600">
                <a:moveTo>
                  <a:pt x="0" y="0"/>
                </a:moveTo>
                <a:lnTo>
                  <a:pt x="30849" y="0"/>
                </a:lnTo>
                <a:lnTo>
                  <a:pt x="29449" y="1400"/>
                </a:lnTo>
                <a:lnTo>
                  <a:pt x="1400" y="1400"/>
                </a:lnTo>
                <a:close/>
              </a:path>
              <a:path fill="darken" w="30849" h="21600">
                <a:moveTo>
                  <a:pt x="30849" y="0"/>
                </a:moveTo>
                <a:lnTo>
                  <a:pt x="30849" y="21600"/>
                </a:lnTo>
                <a:lnTo>
                  <a:pt x="29449" y="20200"/>
                </a:lnTo>
                <a:lnTo>
                  <a:pt x="29449" y="1400"/>
                </a:lnTo>
                <a:close/>
              </a:path>
              <a:path fill="darkenLess" w="30849" h="21600">
                <a:moveTo>
                  <a:pt x="308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9" y="20200"/>
                </a:lnTo>
                <a:close/>
              </a:path>
              <a:path fill="lighten" w="308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5b7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Back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543800" y="4648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bbah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H="1" flipV="1">
            <a:off x="6324120" y="3352680"/>
            <a:ext cx="1143000" cy="152424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620120" y="35053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ogelim?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H="1" flipV="1">
            <a:off x="5867280" y="1828800"/>
            <a:ext cx="1905120" cy="182880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638680" cy="685800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5943600" y="182880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Mahanaim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3962160" y="2133720"/>
            <a:ext cx="1904760" cy="1676160"/>
          </a:xfrm>
          <a:prstGeom prst="line">
            <a:avLst/>
          </a:prstGeom>
          <a:ln w="5724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019920" y="53341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Jerusalem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H="1" flipV="1">
            <a:off x="2743200" y="5181120"/>
            <a:ext cx="3124080" cy="304920"/>
          </a:xfrm>
          <a:prstGeom prst="line">
            <a:avLst/>
          </a:prstGeom>
          <a:ln w="5724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7" name="">
            <a:hlinkClick r:id="" action="ppaction://hlinkshowjump?jump=previousslide"/>
          </p:cNvPr>
          <p:cNvSpPr/>
          <p:nvPr/>
        </p:nvSpPr>
        <p:spPr>
          <a:xfrm>
            <a:off x="7086600" y="624852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5b7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Back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1T20:35:39Z</dcterms:created>
  <dc:creator>Terry W. Benton</dc:creator>
  <dc:description/>
  <dc:language>en-US</dc:language>
  <cp:lastModifiedBy>Frank D Vines</cp:lastModifiedBy>
  <dcterms:modified xsi:type="dcterms:W3CDTF">2005-07-10T04:13:45Z</dcterms:modified>
  <cp:revision>20</cp:revision>
  <dc:subject/>
  <dc:title>Give Us A King</dc:title>
</cp:coreProperties>
</file>